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3C9-5234-4785-B5BA-0E85DFEC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E34-4CE9-4BC5-A309-5FCC5FA2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4CBC4-BAE3-45F6-83C3-6068B73A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33BC3-1670-4EBC-99F0-5C5B72B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F0E1F-1AFE-475C-AFA0-1331EE7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3C455-8752-487B-8ECC-56919648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2EDC8-5A3F-4990-BB29-70BEF88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79D04-FBA0-4CC5-99E9-115C186A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C00E0-D536-4E0B-85FB-B23C869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56BB8-A971-4C95-9460-3EEFFD78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519F9-268C-46B6-8C17-1A10DA6D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882-E249-40DD-9E80-1CB99589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D96-3DB1-4F25-A091-F3D75F12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B45F-F479-459E-ABB0-F90EAB69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6B94-48E1-4B41-A6EC-66C4CDA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2FB1-4B56-4143-BBD3-C85F0ED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8662-322D-478C-A9B5-C332501B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B7C-718D-485C-AA96-C2686E6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541-D4E5-4551-92F8-4F9746F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071-6D54-41B4-8B81-92F0062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8FB-4663-4B1C-8AB9-980CCD7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A43-E697-48A2-8B08-9889DD6A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E3A-D689-406D-8B37-D8917B9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821F-F75E-4A70-A08E-5F0D187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571-BBCC-4A70-8D74-1E0D15F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4C00-7F0A-4A5A-9DA4-92530EB3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A7E06-6A11-4827-81F4-2B4A123359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15F7B-2F07-4962-BEAF-2AEDE9F969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2CE17-942A-466C-AE28-D8231F33EA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0625-C7B6-4D19-9BA2-8333468C17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64514-AD24-4312-83D7-DD2679782D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631-EC22-472A-8068-A3D53B1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D43E8-6F3B-4CBB-995E-3FC3AF8DA2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C4D36-9467-4B09-B904-E69F97D436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1C2BE-E6EE-4C08-8DE6-7C4331D07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8215A-5E1E-405D-9930-61677D5A80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A9BB4-4770-40A9-9BBB-6C4B358C0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B73CF-A1B7-493B-A922-B25FD4868F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28130-F7B3-4583-A74A-457CA46A78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E327C-C449-4EC8-91C2-5FEF2878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0A778-4BA2-4A9B-9E3D-EF95DCE4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22DF6-EE92-4F9B-8142-CC0890C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A5C-0A1A-487F-ACE7-0564632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CD591-0E67-42D4-89FB-B3916CD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55CA1-E100-4902-9F4A-9A5A550F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B41E3-605D-420E-8A67-62EC1516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70FB1-6674-416D-9683-66E5ABC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8FF5F-D4F5-4B7E-B0D1-5B35A66F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88E49-2565-4E24-BF81-45C113A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ED9CE-01E1-43C2-839F-BE043F3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FEEF3-0770-42FC-8B47-96288152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4BA7A-6135-490D-8EDB-3D2D21FE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F355C-145D-4EC7-B0D8-1BF82FE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582-F41D-4C63-8CBD-984EE31A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27F17-2DFB-41DF-AF1E-275E42B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6CF4E-D2CF-4973-8B46-A6028C64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0A0F3-5E7E-4449-8F54-6DDF1B53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59C08-F74E-4BBB-BF5B-4A87A67B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AF1E9-EC51-4689-B080-E091E65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48E63-EBF0-41D3-AA20-96735D5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F7E29-5E36-48B8-AEC8-4760FB2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B057B-05A6-427B-AB34-B59B647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B0430-2FEF-4BAF-9236-8156F4C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E24B4-E979-4BAC-BD37-CA439664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9A3-23CF-4717-812A-E3A9D3CB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1D5B8-5987-4243-95E4-4A75AB6B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313C2-F913-49C6-8C88-0B7D3161D2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E608A-904A-4681-8D08-1C2BBB3B24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217AA-1C68-442F-8376-DB1A675057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D1195-80EC-4F58-8187-7131273F7A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7848D-20BE-4541-AFE9-6A861EE061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375AD-C295-4824-BCE4-453A521F50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E022B-2406-41C5-BE14-25271FA1E7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71203-3FE5-4B64-9909-36A58D44EA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EE369-18AF-41B8-8EF0-E5E6DEA63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68E-BF16-4CBC-B517-64F87D0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BA9BA-022C-44A7-8BD2-B8A9A31F1D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2DEA1-F926-4638-B80B-BC5CED6B95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93609-19BE-4663-BB27-AD5CB36C2F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8D014-F90B-4C3A-AFDA-F16675A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8C06B-66EF-4D4F-A36C-6BC91AF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9F8A8-5B51-4107-8183-C1F6B81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C2DBC4-DF0B-43C8-BACE-AE04589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86A38-0F25-4646-950E-F6305B5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7742A-A13D-4505-B469-FD07474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B32D13-6C1B-40D9-80BD-619AAA1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766-60CA-4FBC-A97E-252FF8A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D5CAF-5181-4766-BF59-9C5CE308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A2B6B-C0A5-418C-B3CF-EF9AD85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A1F50-5F57-436F-A806-D70235C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EA75C-5DE9-4FAB-A2A4-4EF77D87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5D8B1-4FE0-493D-8AD7-D74B4057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64D3C7-DCFF-47D5-8173-49BA625B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473E8-F115-4DCA-8C5B-7039C24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C02EE6-39EC-49F8-B51D-34EBF330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56C83-4624-49C2-8E2E-B394F12F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06DD75-1C76-433D-A0BA-98ECB761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8E5-379B-4607-8359-90FECD1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BD182-D759-4FE3-AA5C-70DBFDA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69561-5591-42A7-8342-08D5078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20018-06CB-4496-BDF3-01B176A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11ED5-B368-4E6B-B159-F0C882D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302A62-11C1-4517-B82D-1C7ADD6A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BDF0C-897F-4068-B21E-06D12126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DE5CD-3A38-47FE-84AC-83D7D1D0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D1A98-5815-4983-AAC2-42BB1CFD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4CB97-7735-4B5D-B788-838ADE4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87830-5060-49FD-9E04-25CDAD8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C7C-E8BE-4A31-A3AF-47C2DFC34A5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2A1-D329-447D-91DE-BF072DBA738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114264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D048-588E-41E7-AF8C-599D3CF475F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tango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ttango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870C-7123-4833-BF68-06B43031FC5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Triangolo isosce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9B4-C806-4134-9644-4B03D611F2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5"/>
          </p:nvPr>
        </p:nvSpPr>
        <p:spPr>
          <a:xfrm>
            <a:off x="1295280" y="6356520"/>
            <a:ext cx="739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1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6747-E2FD-43C8-84A5-01E9497D62B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Connettore 1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Triangolo isosce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E9B-6530-418B-8C04-30236C1756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ttango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9F9C-32E3-47B4-BDE6-70635FF035C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Connettore 1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51B-053C-463A-9B4F-1FA7CFF7163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Bookman Old Style"/>
              </a:rPr>
              <a:t>Tecniche di Progettazione:</a:t>
            </a:r>
            <a:br>
              <a:rPr sz="2900"/>
            </a:br>
            <a:r>
              <a:rPr b="0" lang="it-IT" sz="2900" spc="-1" strike="noStrike">
                <a:solidFill>
                  <a:srgbClr val="000000"/>
                </a:solidFill>
                <a:latin typeface="Bookman Old Style"/>
              </a:rPr>
              <a:t>Design Patter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64653"/>
                </a:solidFill>
                <a:latin typeface="Bookman Old Style"/>
              </a:rPr>
              <a:t>GoF: Interpr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523880" y="635472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559C-6856-4A5B-8EAB-5EC3E255CF63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terpreter: Calculat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Segnaposto piè di pagina 2"/>
          <p:cNvSpPr/>
          <p:nvPr/>
        </p:nvSpPr>
        <p:spPr>
          <a:xfrm>
            <a:off x="990720" y="6356520"/>
            <a:ext cx="76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9AD-9D53-42AC-AFB0-B92EC3184F6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274680" y="1523880"/>
            <a:ext cx="8609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terprete Tin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ompletare l’esercizio. in uno dei due seguenti modi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ridefinire Assignement in modo che valuti espressioni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definire un comando Decrementa e un comando Incrementa. Testare l'iterazione facendo una somma.       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Segnaposto piè di pagina 2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E31-217D-4DD6-91CC-1138C85C2FF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terprete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iven a language, define a representation for its grammar along with an interpreter that uses the representation to interpret sentences in the language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pplicability – Use Interpreter Pattern wh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grammar is simpl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13960" indent="-22608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ser generators are a better alternativ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Efficiency is not a critical concer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13960" indent="-22608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usually efficient to parse trees directly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3960" indent="-22608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late them into another form.  Consider transforming regular expressions into state machines firs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3960" indent="-22608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even then,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ranslato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an be implemented by the Interpreter Patter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1DD1-8A7E-4674-B999-639FD5790445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dvant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pattern is useful when developping domain-specific languages or not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pattern allows the grammar for such a notation to be represented in an OO fasch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he grammar can hence be easily extended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CB9-05CE-4676-A6CE-EB851AC2D66B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ructure of Interpret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egnaposto piè di pagina 3"/>
          <p:cNvSpPr/>
          <p:nvPr/>
        </p:nvSpPr>
        <p:spPr>
          <a:xfrm>
            <a:off x="11430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Segnaposto numero diapositiva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A3E-3D78-4C85-BC50-22BA6BD1263A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1294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articipa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lien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client class represents the consumer of the interpreter design pattern. Client objects build the tree of expressions that represent the commands to be executed, often with the help of a parser class. The Interpret method of the top item in the tree is then called, passing any context object, to execute all of the commands in the tre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ntex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context class is used to store any information that needs to be available to all of the expression objects. If no global context is required this class is unnecessary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Segnaposto piè di pagina 2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Segnaposto numero diapositiva 3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A61-73EB-4E73-AFF3-5AC5F393C42D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articipa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ressionBas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is abstract class is the base class for all expressions. It defines the Interpret method, which must be implemented for each subclas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erminalExpress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re those that can be interpreted in a single object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terminalExpress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se expressions are aggregates containing one or more further expressions, each of which may be terminal or non-terminal. When a non-terminal expression class's Interpret method is called, the process of interpretation includes calls to the Interpret method of the expressions it hold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16" name="Segnaposto piè di pagina 2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117-E2E1-42D4-9AF7-99A2E582C07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cessing of mathematical problems provided in a simplified Polish notation. This notation defines a mathematical operator followed by two values, for example "+ 5 6". In this case, the + symbol indicates that the two following values should be summed, giving 11. The notation allows multiple operators and values to be included in the string, for example "+ - 6 5 7". In this case, the subtraction would be applied to the 6 and 5 to give 1. The addition would then be applied to the calculated 1 and the 7 for a final result of 8. Polish notation is useful because it does not require the use of parentheses to avoid ambigu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E574-01DA-47B8-8A1D-8CD2A25E3E4E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ctn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imple parser could be used to convert integer values from the Polish notation into terminal expressions and the operators into non-terminal expressions. The operator classes would contain two expressions, each of which may be terminal or non-terminal. Once the parser has created this hierarchical structure, the interpreter design pattern could be used to calculat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esult of the original Polish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ation problem. The hierarch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expressions for "+ - 6 5 7" woul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as follow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112-203D-4E36-A11A-DA9E5AD886A9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5880" y="3962520"/>
            <a:ext cx="2341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sempio Calculat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Nel main parsing e costruzione dell’albero sintattic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Di solito i parser non sono scritti a mano ma generati attraverso dei generatori di parser !!!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’interprete parte dall’alber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Segnaposto piè di pagina 2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DE59-3A2F-4187-87B4-41EC275B3F34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</cp:lastModifiedBy>
  <dcterms:modified xsi:type="dcterms:W3CDTF">2013-04-17T10:48:56Z</dcterms:modified>
  <cp:revision>5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